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CD19-7C67-413D-8BBE-7280ECE0F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44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131720"/>
            <a:ext cx="90644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DC01-221D-4E6A-BCC6-71BDFE30A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33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7640" y="1768320"/>
            <a:ext cx="44233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131720"/>
            <a:ext cx="44233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7640" y="4131720"/>
            <a:ext cx="44233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4FC4-7684-4993-86E6-FF29DDE12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600" y="1768320"/>
            <a:ext cx="291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2640" y="1768320"/>
            <a:ext cx="291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131720"/>
            <a:ext cx="291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600" y="4131720"/>
            <a:ext cx="291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2640" y="4131720"/>
            <a:ext cx="291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A26C-7906-4334-A232-6BCFA9A99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44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F439-25B3-42C5-9D4F-A5E0694C1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44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0918-346B-4E9E-AD10-7B42AED31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33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7640" y="1768320"/>
            <a:ext cx="44233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D476-7FBD-423C-8846-AE6F0DF16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CCCC-1DFD-44D7-B44B-ECE29EB1A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3660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A6DC-F46C-4C56-B752-C0F0C18CF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33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7640" y="1768320"/>
            <a:ext cx="44233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131720"/>
            <a:ext cx="44233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A5D1-07FF-4431-A6B1-BD53AFEC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33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7640" y="1768320"/>
            <a:ext cx="44233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7640" y="4131720"/>
            <a:ext cx="44233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1C5E-370A-4AB5-A9C4-66F2206D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33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7640" y="1768320"/>
            <a:ext cx="44233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131720"/>
            <a:ext cx="90644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6E8B-8333-43FE-AB09-3944F67B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44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670800"/>
            <a:ext cx="2341440" cy="51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670800"/>
            <a:ext cx="3189240" cy="51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670800"/>
            <a:ext cx="2341800" cy="51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6028FF-D113-44A5-8723-EB02CEE6FBB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0280" y="160020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3280" y="382680"/>
            <a:ext cx="9070920" cy="58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5.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Early Cold War Ye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5800" y="500040"/>
            <a:ext cx="8686800" cy="635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8088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F. NATO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 North Atlantic Treaty Organ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 Formed a defensive military all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 Attack on one is an attack on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ime in US history the US en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o military alliance during peace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 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ime US committed to maintaining peace in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ur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8088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G. Warsaw Pact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Stalin develops the Warsaw Pact in response to N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Military alliance for his Eastern Europe satellite n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57200" y="3886200"/>
            <a:ext cx="91440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3280" y="380880"/>
            <a:ext cx="90676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Lesson Objectives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students will be able to explain what the US created to try and contain Communis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students will be able to discuss the Berlin Airlift and why it was star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The students will be able to the difference between NATO and the Warsaw Pa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A. Containing Communism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Long Tele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Explained Russia’s insecurities to a struggle between communism and capital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Therefore, containment became the US’s foreign policy 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151600" y="1768320"/>
            <a:ext cx="4425840" cy="4530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943600" y="1828800"/>
            <a:ext cx="2971800" cy="420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8268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B. Crisis in Iran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5840" cy="5102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viets do not leave Northern Iran after WW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Stalin wanted oil supplies from Ir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Created separate Communist govt in N. Ir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US demands forces to leave Ir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151600" y="1768320"/>
            <a:ext cx="4425840" cy="4530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257800" y="1828800"/>
            <a:ext cx="41148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8268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. Truman Doctrine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ssist countries in helping prevent communism from entering their bor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Started with Greece and Turk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151600" y="1768320"/>
            <a:ext cx="4425840" cy="45309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486400" y="1523880"/>
            <a:ext cx="371808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8088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D. The Marshall Plan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7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 will give aid to those European countries needing to rebuild their econom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. SU and satellite nations refused hel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.Western Europe’s recovery decreased appeal for commun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149800" y="1767960"/>
            <a:ext cx="4425840" cy="4529160"/>
          </a:xfrm>
          <a:prstGeom prst="rect">
            <a:avLst/>
          </a:prstGeom>
          <a:ln w="0">
            <a:noFill/>
          </a:ln>
        </p:spPr>
      </p:pic>
      <p:pic>
        <p:nvPicPr>
          <p:cNvPr id="60" name="MarshallPlan" descr=""/>
          <p:cNvPicPr/>
          <p:nvPr/>
        </p:nvPicPr>
        <p:blipFill>
          <a:blip r:embed=""/>
          <a:stretch/>
        </p:blipFill>
        <p:spPr>
          <a:xfrm>
            <a:off x="5257800" y="1600200"/>
            <a:ext cx="41148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8088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E. Berlin Airlift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58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protest unification of West Germany, Stalin orders blockade of West 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Goal: to fly in food and supplies into West 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Planes landing every 3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min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Stalin sees blockad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ineffective; calls it o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149800" y="1767960"/>
            <a:ext cx="4425840" cy="4529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781520" y="1590840"/>
            <a:ext cx="4591080" cy="48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85800" y="479520"/>
            <a:ext cx="8686800" cy="637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85800" y="457200"/>
            <a:ext cx="4952880" cy="3814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4114800" y="2906640"/>
            <a:ext cx="5029200" cy="3951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01:52:43Z</dcterms:created>
  <dc:creator>Courtney Huro</dc:creator>
  <dc:description>Presentation Layout Template</dc:description>
  <dc:language>en-US</dc:language>
  <cp:lastModifiedBy/>
  <cp:revision>1</cp:revision>
  <dc:subject/>
  <dc:title>Blue and Red Gradient</dc:title>
</cp:coreProperties>
</file>